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pplause.wav" ContentType="audio/x-wav"/>
  <Override PartName="/ppt/media/image3.jpeg" ContentType="image/jpeg"/>
  <Override PartName="/ppt/media/image4.jpeg" ContentType="image/jpe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9E3-9466-49BB-B0A0-6D2108AD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855-7A88-4408-A39B-4F5AC9C9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4C6-37F0-4E2C-B7E2-FF92D2E9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28F-F049-4E22-9A7E-1802A63B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B99-A9B6-4F25-93DD-AE2A205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E49-EED0-4EFA-8F06-365C776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A7C-ACBA-42FE-87BF-CC79B61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EC3-0809-4CE4-AA17-5C7DB8CF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E2E-1B36-45DA-B175-017BC9A6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C89-355F-499B-8FB5-170E5FA4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56B-1DC7-4D7F-B9F0-EFFACD0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823-400B-4995-9C41-5EF310A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4D1E-3B3B-437E-B3BB-071BED3DF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gbog.com/gallery/russia_pictures/russia_pictures_st_pete_1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Russia pictures - Red Squar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S HISTORY UP TO 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rianna Sullivan ,Wilson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4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RUSSIAS HISTORY B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called the Slavs started a civilization called the kievan  Rus around present day Kiev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D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50" name="_s12301"/>
            <p:cNvCxnSpPr>
              <a:stCxn id="51" idx="0"/>
              <a:endCxn id="52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2300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2296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NGOLS INVA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2297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IEV LOST LOTS OF MONE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2298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ST LOTS OF POW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developed into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a empire called cz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ars ruled the empire in 1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pole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12 a French army and the napoleon invaded 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d weather forced army to le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12 became Russia a symbol of Russian patriot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bomb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ar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1 started in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called Vladimir Lenin let the Russians i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was unprepared for bat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ONE BY WILSON 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DONE BY BRIANNA  SULLI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48:12Z</dcterms:created>
  <dc:creator> </dc:creator>
  <dc:description/>
  <dc:language>en-US</dc:language>
  <cp:lastModifiedBy> </cp:lastModifiedBy>
  <dcterms:modified xsi:type="dcterms:W3CDTF">2010-12-20T13:08:35Z</dcterms:modified>
  <cp:revision>37</cp:revision>
  <dc:subject/>
  <dc:title>RUSSIA`S HISTORY FROM 1917</dc:title>
</cp:coreProperties>
</file>